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BE64-F288-4D01-A69B-80178F0A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B3D5-5265-4F45-915A-F28711BF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0E2B-BDC3-4D93-AE29-7EF536278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340B-5CD1-4ECB-80CC-39B9584D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15FD-DFF3-4998-838F-8F22B4D0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ACAF-E0E3-4E75-978C-5760FE43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F773-0F63-4FF5-85CB-B684EA9C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1803-4021-483D-8B58-8D65B53C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C40B-5DC8-4291-8DA9-B67C7A92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4AF1-A5B8-4A8B-9153-5299499F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A5A0-364C-4CBC-A4FB-DC34E367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0B9E-647F-4CD6-B603-C6D49352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EAF4-8010-49E2-ADBC-1FF61FEF7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" Target="slide15.xml"/><Relationship Id="rId16" Type="http://schemas.openxmlformats.org/officeDocument/2006/relationships/slide" Target="slide18.xml"/><Relationship Id="rId17" Type="http://schemas.openxmlformats.org/officeDocument/2006/relationships/slide" Target="slide18.xml"/><Relationship Id="rId18" Type="http://schemas.openxmlformats.org/officeDocument/2006/relationships/slide" Target="slide18.xml"/><Relationship Id="rId19" Type="http://schemas.openxmlformats.org/officeDocument/2006/relationships/slide" Target="slide20.xml"/><Relationship Id="rId20" Type="http://schemas.openxmlformats.org/officeDocument/2006/relationships/slide" Target="slide20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" Target="slide21.xml"/><Relationship Id="rId24" Type="http://schemas.openxmlformats.org/officeDocument/2006/relationships/slide" Target="slide21.xml"/><Relationship Id="rId25" Type="http://schemas.openxmlformats.org/officeDocument/2006/relationships/slide" Target="slide21.xml"/><Relationship Id="rId26" Type="http://schemas.openxmlformats.org/officeDocument/2006/relationships/slide" Target="slide22.xml"/><Relationship Id="rId27" Type="http://schemas.openxmlformats.org/officeDocument/2006/relationships/slide" Target="slide2.xml"/><Relationship Id="rId2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51280" y="530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HAZIRLAY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MİNE HATİPOĞ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76360" y="1628640"/>
            <a:ext cx="6191280" cy="2592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istral"/>
              </a:rPr>
              <a:t>NÜKLEİK ASİTLER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istral"/>
              <a:ea typeface="Mistral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7308720" y="6237360"/>
            <a:ext cx="576360" cy="620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20640"/>
              <a:gd name="textAreaBottom" fmla="*/ 583560 h 620640"/>
            </a:gdLst>
            <a:ahLst/>
            <a:rect l="textAreaLeft" t="textAreaTop" r="textAreaRight" b="textAreaBottom"/>
            <a:pathLst>
              <a:path w="21600" h="23258">
                <a:moveTo>
                  <a:pt x="0" y="0"/>
                </a:moveTo>
                <a:lnTo>
                  <a:pt x="21600" y="0"/>
                </a:lnTo>
                <a:lnTo>
                  <a:pt x="21600" y="23258"/>
                </a:lnTo>
                <a:lnTo>
                  <a:pt x="0" y="23258"/>
                </a:lnTo>
                <a:close/>
              </a:path>
              <a:path fill="lightenLess" w="21600" h="232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8">
                <a:moveTo>
                  <a:pt x="21600" y="0"/>
                </a:moveTo>
                <a:lnTo>
                  <a:pt x="21600" y="23258"/>
                </a:lnTo>
                <a:lnTo>
                  <a:pt x="20200" y="21858"/>
                </a:lnTo>
                <a:lnTo>
                  <a:pt x="20200" y="1400"/>
                </a:lnTo>
                <a:close/>
              </a:path>
              <a:path fill="darkenLess" w="21600" h="23258">
                <a:moveTo>
                  <a:pt x="21600" y="23258"/>
                </a:moveTo>
                <a:lnTo>
                  <a:pt x="0" y="23258"/>
                </a:lnTo>
                <a:lnTo>
                  <a:pt x="1400" y="21858"/>
                </a:lnTo>
                <a:lnTo>
                  <a:pt x="20200" y="21858"/>
                </a:lnTo>
                <a:close/>
              </a:path>
              <a:path fill="lighten" w="21600" h="23258">
                <a:moveTo>
                  <a:pt x="0" y="232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8"/>
                </a:lnTo>
                <a:close/>
              </a:path>
              <a:path fill="darken" w="21600" h="23258">
                <a:moveTo>
                  <a:pt x="3794" y="4623"/>
                </a:moveTo>
                <a:lnTo>
                  <a:pt x="17806" y="11629"/>
                </a:lnTo>
                <a:lnTo>
                  <a:pt x="3794" y="1863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DEOKSİRİBONÜKLEİK ASİT(DNA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787640" y="1700280"/>
            <a:ext cx="41670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Çift zincirlidir ve sarmal        yapıdadır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Deoksiriboz şekeri bulun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Nükleotitleri A,T,G,S’d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denin sayısı Timin sayısına, Guanin sayısı Sitozin sayısına eşittir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denin ile Timin arasında iki, Guanin ile Sitozin arasında ise üç tane zayıf hidrojen bağı vardır.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360" y="1803240"/>
            <a:ext cx="4535280" cy="423252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77407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11797"/>
                </a:moveTo>
                <a:lnTo>
                  <a:pt x="17806" y="4790"/>
                </a:lnTo>
                <a:lnTo>
                  <a:pt x="17806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508720" y="1125360"/>
            <a:ext cx="3414600" cy="5040360"/>
          </a:xfrm>
          <a:prstGeom prst="rect">
            <a:avLst/>
          </a:prstGeom>
          <a:ln w="0">
            <a:noFill/>
          </a:ln>
        </p:spPr>
      </p:pic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77407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11797"/>
                </a:moveTo>
                <a:lnTo>
                  <a:pt x="17806" y="4790"/>
                </a:lnTo>
                <a:lnTo>
                  <a:pt x="17806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512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Kendini tek taraflı olarak eşleyebili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Genlerdeki değişmeye mutasyon den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Mitokondri, kloroplast, çekirdek, çekirdek yoksa sitoplazmada bulunabilir. Ancak kloroplast ve mitokondrideki DNA’lar kalıtım materyali sayılmazlar, bunlar eşlenirken çekirdek DNA’sına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ağımlıdırla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DNA tabiatta kendini eşleyerek benzerini yapabilen tek moleküldü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DNA sentezi sırasında açığa çıkan su sayısı (n;nükleotit sayısı olmak üzere) 3n-2 tanedir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DNA’nın Eşlenmesi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(Replikasy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00720" y="1699920"/>
            <a:ext cx="4238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DNA kendini yarı korunumlu olarak eşle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u olaylar hücre bölünmesinin interfaz safhasında meydana geli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Replikasyonda görev alan enzim DNA polimeraz enzimidi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DNA’nın kendini bu şekilde yarı korunumlu olarak eşlemesine seminkonservatif eşlenme deni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4017960" cy="4608360"/>
          </a:xfrm>
          <a:prstGeom prst="rect">
            <a:avLst/>
          </a:prstGeom>
          <a:ln w="0">
            <a:noFill/>
          </a:ln>
        </p:spPr>
      </p:pic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7407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11797"/>
                </a:moveTo>
                <a:lnTo>
                  <a:pt x="17806" y="4790"/>
                </a:lnTo>
                <a:lnTo>
                  <a:pt x="17806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REPLİKASYO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43214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r hücrede DNA’nın eşlenmeye başlaması hücrenin mutlaka bölüneceği anlamına geli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ğer DNA bir ucundan değil de orta kısımlarından açılırsa protein sentezi için şifre verecek demektir. 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3280" y="1773360"/>
            <a:ext cx="4321440" cy="4392360"/>
          </a:xfrm>
          <a:prstGeom prst="rect">
            <a:avLst/>
          </a:prstGeom>
          <a:ln w="0">
            <a:noFill/>
          </a:ln>
        </p:spPr>
      </p:pic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7407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11797"/>
                </a:moveTo>
                <a:lnTo>
                  <a:pt x="17806" y="4790"/>
                </a:lnTo>
                <a:lnTo>
                  <a:pt x="17806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’nın Görev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40000" y="1341000"/>
            <a:ext cx="48243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ölünme ile oluşan DNA’lar aynı genetik bilgiyi taşır,hücre sayısı artar,canlılarda büyüme ve üreme olur, üremeyle karakterler yavrulara aktarılı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  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DNA’nın görevi canlılar arasındaki çeşitliliği sağlamak ,hücreyi yönetmek ,replikasyon ile canlılarda büyüme ve kalıtsal karakterlerin aktarılmasını sağlamak,trankripsiyon ile de RNA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sentezini yapmaktı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407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11797"/>
                </a:moveTo>
                <a:lnTo>
                  <a:pt x="17806" y="4790"/>
                </a:lnTo>
                <a:lnTo>
                  <a:pt x="17806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403200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NA) RİBONÜKLEİK ASİ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3970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Tek zincirlidi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Riboz şekeri bulunu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Nükleotitleri A,U,G,S’di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Kendini eşleyemez.DNA’dan sentezleni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Mitokondri,kloroplast,çekirdek ve sitoplazmada bulunabilir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7407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11797"/>
                </a:moveTo>
                <a:lnTo>
                  <a:pt x="17806" y="4790"/>
                </a:lnTo>
                <a:lnTo>
                  <a:pt x="17806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43280" y="1268280"/>
            <a:ext cx="34815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4681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3 çeşittir ve hepsi de protein sentezinde görevlidir.çekirdekte üretilir ve tekrar tekrar kullanılabilirle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Riboz şekeri bulunduran Adenin nükleotidi RNA’dan başka ATP,NAD,NADP ve FAD gibi moleküllerinde bulunu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azı virüslerde sadece RNA bulunduğu için bunlarda RNA kalıtsal görevi üstlenmiştir,yani kendini eşleyebilir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3673440" cy="417672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7407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11797"/>
                </a:moveTo>
                <a:lnTo>
                  <a:pt x="17806" y="4790"/>
                </a:lnTo>
                <a:lnTo>
                  <a:pt x="17806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388764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RNA’nın yapısında protein yoktu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RNA’ların DNA üzerinden sentezine transkripsiyon (yazılma) deni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u olay DNA’nın tek zincirinden olu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u olayda görevli enzim RNA polimeraz enzimid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RNA’ya şifre veren DNA parçasına gen deni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427640" y="1341360"/>
            <a:ext cx="4392360" cy="417528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407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11797"/>
                </a:moveTo>
                <a:lnTo>
                  <a:pt x="17806" y="4790"/>
                </a:lnTo>
                <a:lnTo>
                  <a:pt x="17806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0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mRNA (Elçi RNA = Mesajcı RNA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47516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DNA’dan aldığı bilgiyi ribozoma taşır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Ribozom birimlerini aktifleştirir ve protein sentezine kalıplık yapar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er protein çeşidi için ayrı bir mRNA sentezlenir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ir mRNA aynı proteinin sentezinde çok defa kullanılabil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Yeterli protein sentezlendikten sonra mRNA yıkılır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mRNA düz bir zincir biçiminde olup hücredeki RNA’ların en az oranda bulunanıdır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407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11797"/>
                </a:moveTo>
                <a:lnTo>
                  <a:pt x="17806" y="4790"/>
                </a:lnTo>
                <a:lnTo>
                  <a:pt x="17806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859280" y="1197000"/>
            <a:ext cx="39546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2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mRNA (Elçi RNA = Mesajcı RNA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356000" y="1628280"/>
            <a:ext cx="4464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mRNA’ daki üçlü nükleotit grubuna kodon deni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er kodon bir tRNA ve bir aminoasiti belirle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tr-TR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=64 çeşit kodon vardır.Bunlardan biri başlama kodonu (AU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üç tanesi de (UAG-UGA-UAA) bitiş kodonud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itiş kodonlarının aminoasiti yoktur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3240000" cy="411012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7407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11797"/>
                </a:moveTo>
                <a:lnTo>
                  <a:pt x="17806" y="4790"/>
                </a:lnTo>
                <a:lnTo>
                  <a:pt x="17806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9" dur="2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İÇİNDEKİ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362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MAÇ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KAZANDIRILACAK 21.YÜZYIL BECERİLER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TEMEL SO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KİM BULMUŞ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KAÇ ÇEŞİ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NÜKLEİK ASİTLERİN YAP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DNA –RNA YAPISAL FARKLILIKL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DEOKSİRİBONÜKLEİK ASİ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DNA’nın Eşlenmesi_x000b_(</a:t>
            </a: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Replikasyon</a:t>
            </a: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DNAnın</a:t>
            </a: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 GÖREVLER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(RNA)RİBONÜKLEİK ASİ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 </a:t>
            </a: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mRNA</a:t>
            </a: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 (Elçi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 </a:t>
            </a: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tRNA</a:t>
            </a: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 (Taşıyıcı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rRNA</a:t>
            </a: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 (</a:t>
            </a: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Ribozomal</a:t>
            </a: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  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TEŞEKKÜ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27" action="ppaction://hlinksldjump"/>
          </p:cNvPr>
          <p:cNvSpPr/>
          <p:nvPr/>
        </p:nvSpPr>
        <p:spPr>
          <a:xfrm>
            <a:off x="77407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11797"/>
                </a:moveTo>
                <a:lnTo>
                  <a:pt x="17806" y="4790"/>
                </a:lnTo>
                <a:lnTo>
                  <a:pt x="17806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RNA (Taşıyıcı 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48243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Sitoplazmadaki aminoasitleri mRNA’ daki şifreye göre ribozoma götürü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tRNA’ daki üçlü nükleotit grubuna antikodon denir.Maksimum 64 çeşit antikodon olması gerekirken 61 çeşit antikodon vardır.Bunun sebebi ise bitiş kodonlarının aminoasitlerinin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olmamasıdı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Düz zincirli değildir.Belli bölgelerinde çiftler oluşmuştu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430800" cy="446400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7407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11797"/>
                </a:moveTo>
                <a:lnTo>
                  <a:pt x="17806" y="4790"/>
                </a:lnTo>
                <a:lnTo>
                  <a:pt x="17806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1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1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rRNA (Ribozomal 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62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Proteinlerle birlikte ribozomun yapısını oluşturur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Düz zincirlidi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ücredeki RNA’ların çoğu rRNA’dır.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356000" y="1844640"/>
            <a:ext cx="4464000" cy="3703680"/>
          </a:xfrm>
          <a:prstGeom prst="rect">
            <a:avLst/>
          </a:prstGeom>
          <a:ln w="0">
            <a:noFill/>
          </a:ln>
        </p:spPr>
      </p:pic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407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11797"/>
                </a:moveTo>
                <a:lnTo>
                  <a:pt x="17806" y="4790"/>
                </a:lnTo>
                <a:lnTo>
                  <a:pt x="17806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3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8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3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7407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11797"/>
                </a:moveTo>
                <a:lnTo>
                  <a:pt x="17806" y="4790"/>
                </a:lnTo>
                <a:lnTo>
                  <a:pt x="17806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11280" y="3789360"/>
            <a:ext cx="7993080" cy="251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İZİ DİNLEDİĞİNİZ İÇİ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EŞEKKÜRLE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AÇ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Öğrencilerin kendi bilgilerini kullanarak farklı yollarla çözüm üretmelerini sağlam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aştırma isteklerini ortaya çıkarm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umluluk alarak engelleri aşabileceklerinin farkına varmalarını sağlam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İletişim ve etkileşim ile öğrenmelerini kolaylaştırm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aratıcı düşünme becerilerini ortaya çıkarm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" action="ppaction://hlinksldjump"/>
          </p:cNvPr>
          <p:cNvSpPr/>
          <p:nvPr/>
        </p:nvSpPr>
        <p:spPr>
          <a:xfrm>
            <a:off x="77407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11797"/>
                </a:moveTo>
                <a:lnTo>
                  <a:pt x="17806" y="4790"/>
                </a:lnTo>
                <a:lnTo>
                  <a:pt x="17806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ZANDIRILMAK İSTENEN 21.YÜZYIL BECERİLER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 çözmek ve soruları yanıtlamak üzere bilgiyi sınırlandırmak, çözümlemek ve birleştirme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ak bir amaca ulaşabilmek için gerekli çabayı gösterecek şekilde esnek ve istekli olmak ve takım çalışması yapabilme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lerin çözümüne yönelik olarak; bilgiye yeterli ve etkili düzeyde ulaşmak, bilgiyi eleştirel ve yeterli düzeyde değerlendirmek, doğru ve yaratıcı bir şekilde kullanma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giyi araştırmak, düzenlemek, değerlendirmek ve paylaşmak üzere teknolojiyi araç olarak kullanmak, ve bilginin erişimine ve kullanımına yönelik olarak etik ve yasal konularda temel bir anlayışa sahip olma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" action="ppaction://hlinksldjump"/>
          </p:cNvPr>
          <p:cNvSpPr/>
          <p:nvPr/>
        </p:nvSpPr>
        <p:spPr>
          <a:xfrm>
            <a:off x="77407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11797"/>
                </a:moveTo>
                <a:lnTo>
                  <a:pt x="17806" y="4790"/>
                </a:lnTo>
                <a:lnTo>
                  <a:pt x="17806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55640" y="404640"/>
            <a:ext cx="7416720" cy="18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e babamıza benzerliğimiz nereden gelmekted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1" action="ppaction://hlinksldjump"/>
          </p:cNvPr>
          <p:cNvSpPr/>
          <p:nvPr/>
        </p:nvSpPr>
        <p:spPr>
          <a:xfrm>
            <a:off x="77407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11797"/>
                </a:moveTo>
                <a:lnTo>
                  <a:pt x="17806" y="4790"/>
                </a:lnTo>
                <a:lnTo>
                  <a:pt x="17806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908000" y="1700280"/>
            <a:ext cx="48564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İM BULD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u moleküller ilk defa Friderich Miescher tarafından balık spermi ve akyuvar çekirdeğinde tespit edilmişt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En çok çekirdekte bulundukları için nükleik asitler(çekirdek asitleri) diye isimlendirilmişt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1" action="ppaction://hlinksldjump"/>
          </p:cNvPr>
          <p:cNvSpPr/>
          <p:nvPr/>
        </p:nvSpPr>
        <p:spPr>
          <a:xfrm>
            <a:off x="77407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11797"/>
                </a:moveTo>
                <a:lnTo>
                  <a:pt x="17806" y="4790"/>
                </a:lnTo>
                <a:lnTo>
                  <a:pt x="17806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580000" y="1484280"/>
            <a:ext cx="34606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Ç ÇEŞİ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Asidik özelliğe sahiptirler. Hücre yönetiminden sorumludurla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DNA ve RNA olmak üzere 2 tipt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unlar hücrenin en büyük dev moleküllerdir.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Nükleotitlerden oluşmuştur. Onun için DNA ve RNA birer    polinükleotidt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77407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11797"/>
                </a:moveTo>
                <a:lnTo>
                  <a:pt x="17806" y="4790"/>
                </a:lnTo>
                <a:lnTo>
                  <a:pt x="17806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ÜKLEOTİD YAP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46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Nükleotid denilen birimlerden meydana gelmişlerd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Nükleot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Fosfat(H</a:t>
            </a:r>
            <a:r>
              <a:rPr b="0" lang="tr-T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tr-TR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5 C lu şeker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Azotlu organik bazdan oluş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Nükleotidler isimlerini taşıdıkları organik baza göre alır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716360" y="1628640"/>
            <a:ext cx="4176720" cy="4114800"/>
          </a:xfrm>
          <a:prstGeom prst="rect">
            <a:avLst/>
          </a:prstGeom>
          <a:ln w="0">
            <a:noFill/>
          </a:ln>
        </p:spPr>
      </p:pic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77407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11797"/>
                </a:moveTo>
                <a:lnTo>
                  <a:pt x="17806" y="4790"/>
                </a:lnTo>
                <a:lnTo>
                  <a:pt x="17806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-RNA YAPISAL FARKLILIKL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68360" y="1628640"/>
          <a:ext cx="8207280" cy="4392720"/>
        </p:xfrm>
        <a:graphic>
          <a:graphicData uri="http://schemas.openxmlformats.org/drawingml/2006/table">
            <a:tbl>
              <a:tblPr/>
              <a:tblGrid>
                <a:gridCol w="1641600"/>
                <a:gridCol w="1641240"/>
                <a:gridCol w="1641600"/>
                <a:gridCol w="1641240"/>
                <a:gridCol w="1641600"/>
              </a:tblGrid>
              <a:tr h="76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ÜKLEİK ASİ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TO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 C’LU ŞEK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’LU ORGANİK 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SFORİK ASİ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ÜRİ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İMİDİ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OKSİRİBO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ENİ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Nİ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İTOZİ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İMİ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İBO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ENİ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Nİ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İTOZİ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ASİ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77407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11797"/>
                </a:moveTo>
                <a:lnTo>
                  <a:pt x="17806" y="4790"/>
                </a:lnTo>
                <a:lnTo>
                  <a:pt x="17806" y="188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20:47:31Z</dcterms:created>
  <dc:creator>samsung</dc:creator>
  <dc:description/>
  <dc:language>en-US</dc:language>
  <cp:lastModifiedBy>samsung</cp:lastModifiedBy>
  <dcterms:modified xsi:type="dcterms:W3CDTF">2011-01-03T21:15:42Z</dcterms:modified>
  <cp:revision>29</cp:revision>
  <dc:subject/>
  <dc:title>Slayt 1</dc:title>
</cp:coreProperties>
</file>